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40"/>
          </p:nvPr>
        </p:nvSpPr>
        <p:spPr>
          <a:xfrm>
            <a:off x="3833640" y="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909720" y="742680"/>
            <a:ext cx="49514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move the slide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1"/>
          </p:nvPr>
        </p:nvSpPr>
        <p:spPr>
          <a:xfrm>
            <a:off x="-360" y="94089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42"/>
          </p:nvPr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18E4-894F-4CA0-8090-E521D999E7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E6C7C6-2CF2-4524-856F-69EBF3C3C45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A056-E60C-4D44-8F47-889C4AFD72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C98E-C0A5-4634-BADF-F4CC9A837A4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A323-B09C-4E51-BDB1-053E013158C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D69A-C0DB-4286-92B5-C208C911F02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34CA-599C-486B-B33B-A958326324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B500-FEC4-4B75-9D9C-80B32EC4472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B6AF-9F1B-4728-AE28-2990F277D3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64A7-6531-475A-B693-B571325513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F3D-3AB9-430A-91B9-F83E9928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9D2-20CC-4399-9EE0-AA8545AD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F3076-9DDE-4040-B7D0-C5B35CC8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DB5DB-8808-4B97-8811-61015838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5B946-E6FA-4497-BCA9-EDAA3DAD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DB0C9-B904-4113-AA47-4501F6C7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C4326-557C-4DD2-A143-7DD7B9D0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E3995-14A0-4323-84D5-95306B17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0D5EB-BB88-41BE-8FC7-84F9994F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492CE-A879-4398-8155-6BD91478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078A7-52B1-4E6D-B635-1A0E19D0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48334-CC87-42F4-85A1-830BF2E3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BE9-C66F-4AFD-9651-34253CDE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84B5B-908A-4068-961C-002CE7C7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9BFD9-CB43-4393-AC55-0D31E85A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07D2A-7EA7-4C5A-82F5-B3251077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5A7FE-28A6-4E6A-B717-C86D996B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29B22-5C58-4F8A-A5D9-72DF766F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7C716-9845-49F6-8F7C-B565FAA3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232BC-BC54-4812-BEC8-A29B60AC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4A066-E884-4092-9878-D0530755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5E3FD-2EDE-4B6C-9860-789FDF16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1AFFB-59BE-4619-9183-54356E2A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61A-4460-4602-B480-42B31604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C58F9-6B98-4E5F-AC37-B5377267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2866B-7D69-4951-8435-5133647B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74ECE-9451-4E99-8BC8-144A61A9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00CC8-D7A9-4D17-84D9-DD398C9A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D8901-3497-4024-93BA-9ABE788F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E774E-CD97-473F-BD50-495A4897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9F1A6-7FCD-4D38-99F6-0CA81F11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15B3C-ED0E-499B-910D-291F6905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DAFDB-49E0-47FF-A1AA-DBDB6418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535FE-B0AA-4993-9234-BCC787D3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68C3-5750-46AD-B530-10877BDD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F1265-04A0-4297-AB85-733D1EAD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E6113-2372-40C5-B0A9-31405D84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B23C1-CF49-4628-806E-46064939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41F27-4E0D-403C-9701-FFE67D54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0B625-29B3-41DD-A8DB-7A661BED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ABE5F-7FE2-41D5-ACAC-5811D817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2FC12-0BAB-4FF3-BC12-C4D99710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D5700-0491-46FB-BC5C-1D8FA738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72205-044F-4782-8EAE-4E39B882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EF723-3A4A-4C72-8124-8E13396B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C0F2-1FC6-437F-9B8B-BBC5EF4C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05E8C-1BE7-4C0B-A4D9-83196055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C137C-2C24-482D-90D5-35CE413B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7769C-91F8-4441-AD55-59A74368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D88CD-B31A-41EE-8E0C-A8B85EFD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E30CB-0F09-49A8-9331-82E8D6B3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7BAA5-C5C5-4DCC-9B78-EFD2948B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D24BC-200B-460B-AD21-FE279156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1CE28-43A5-49E8-865B-91B175F2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B8226-F0B1-403C-96AF-CC9D6CA9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17E24-23E0-4B1B-A48D-647E2175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E788-5C81-4AC0-AD27-CEA1AB63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83B98-98B3-4C67-B8F5-E44C2FB3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88457-B9C9-4511-B0DA-77F5F01F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D5516-5419-4D6A-8CEC-20660D1F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A6A1B-BD7B-4016-A48E-4EA835D2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D9D1B-11D8-496C-8460-739640D8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B3291-0220-42E7-984E-003D5FB9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BC965-31C4-4D10-B759-CFDDAF87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26CD-02F2-4358-8199-CC7689E7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C17F-2695-4DDA-8A9A-F03D6259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DA75-414D-4017-8B31-E94C2FD8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8E73-A655-4933-884B-32C0EEDF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33D-145E-4A1E-AA35-01C193EB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2EFE-44DD-46E2-8D0B-4ECE384E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14EF-2EC4-4124-BEF1-B7915B09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92A1-1407-47B8-9DDF-1544E224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0A8D-AFEC-44ED-B4AD-5A894A61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2F2F-2EEA-4470-9595-4812FD4C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FAF9D-7DCB-4BE7-94FC-260FFF4C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878E-ACEC-4A5C-A16E-ED3AFD0E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52E92-3072-47E3-8F73-3670631E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F7D7-E863-4E31-A8C2-5C22A0CD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067DB-A7E5-4CDB-BF5D-50F5A67C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401-28DF-4E9C-82A5-CFAD2FB1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1F853-16C6-4BF2-A1A0-2EA03109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6E9EF-C050-4DA4-A8B0-CC59A1D9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4A7AB-C397-4FEB-A0C5-E5DA1F2C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D2945-8BF8-4DC5-A151-7EC63CB9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7DDEF-43B4-444C-A4A3-C1326DC4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64A7-F033-48F3-B643-006EB59D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59372-54E6-4B88-BAEE-41327B91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565B6-E402-4C63-9C06-C3210F55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1AE4F-107E-4375-9B6A-4706C27C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21852-2F92-463A-A576-BDD75C03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52E-A63C-4CD3-8AC2-F53C1B67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A4FBA-07D3-44BB-8F22-12F31B6F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3929D-72C0-473E-8F24-98278E09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67F3C-EAEC-4F2C-B421-1C43686D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75A65-0C0D-420B-9184-CBAA370B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95865-95B2-4322-9CB0-56003E3E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91417-4EA4-4250-A553-B2F1A59F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7B0B6-F832-4849-BEEB-DFD0C66D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AC0FF-86B8-49F7-98C5-85C5A876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2161D-0A08-4139-907D-64B62E4E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DDBBE-D457-4AAC-B33A-F6C857F0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EA4-AF56-433F-B863-055F11DA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AD490-E3AB-4B32-8F4C-1CB9291B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853CF-9D43-49A8-A83B-1F0784A0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3D21D-5FE8-42D8-A997-EDC19FF2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F244B-4A36-46FE-BB8F-85CDB38B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67FC4-6E0F-4153-84B7-A1EACFFD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A8121-C442-4AD9-A37E-3FBB9F2E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6A437-957D-4AFF-A466-D6560988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C0448-DFA6-4303-9A3B-2E6D2D0A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CC0A0-D874-49E0-A3EA-F79618A6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DEF8C-1462-4547-89D2-4491ED52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4ED-C3BD-4105-BEA0-7D4C0525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0E832-AD50-4392-B5A2-F8D0355C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9EC05-5531-4B7D-B01A-3D84B0A2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367BD-2519-46EA-8111-5F1C89D4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51A8E-10D3-4320-B906-D6154367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8E31C-EAA6-4285-953F-03827F04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956E3-9D7C-456B-8128-C4E879D9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6A51C-F71A-43E7-85C5-4FC07AAD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11C81-09DF-4DEA-97BB-1EDDA389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15851-044A-431A-8518-B87B8292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15266-365D-4D1C-9BC5-E30125AE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9AC-AA29-4B92-A6DA-432FABBA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07BFC-568B-4579-A8FD-AB3F17B3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B96D4-7ADE-4A4E-B967-CBFD2E78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01CCF-8D5E-4D6A-AB5E-C9B241A5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19BBF-245C-4B1E-9F20-DAAD45EC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EAC23-88E3-45CA-ABB3-A6251403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748E8-82AA-461C-9D11-6E34FAD3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68464-CAE7-4538-883E-4023596C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58A5C-6B2D-4B27-8D4B-F168EFFF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5911D-C2AE-4510-AA9C-E9686EA0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17950-C648-4275-B9E8-91399E3C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380-E568-4C00-A35A-A6FDE54D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ADA05-A056-47EA-B076-3A223978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63560-D82B-455B-AB17-C0B93697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E2D1F-A6AB-4DC3-9271-B2931712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A4B7A-70E7-40C2-B7A8-E46CEB98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4FC8B-6D8E-41FE-A357-50AF3937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54B69-B9F6-485D-8E05-2E90615F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5B7E0-8EC5-4B60-93CC-0E7477E2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205F7-0292-47BC-84AF-D2790B7E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9BFD4-7E93-4520-A9DF-D02725D8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5027B-3011-4120-8317-DA6EFA8B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8E4-2541-43A7-A978-B445ED6D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A048D-264E-4594-AA1C-CD5EE1F0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FA0B1-E8F3-4365-951D-659B767A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1918D-FD2A-42D0-B38E-36A32C1B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28C38-4F64-48FC-A352-CE69FBC9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B624B-E706-43B1-B012-798B87F1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F3D40-5BC0-4490-870D-088C8725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0A8C5-427D-48E6-857D-143EC065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FD3E2-3B2A-4217-AE09-A538B217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94D2E-43BB-4BD5-8329-6857E1B8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F7755-F030-42BA-B761-8867D4D7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B09A-3E62-4A28-8510-DB8284F8EC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98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FB8A-8747-4C2B-8B2B-39F8A98D3A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42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59E6-EDB3-40FF-9BCB-C017C5392D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8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BFE5-0B8B-402B-A124-A766A1A36E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3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B9FB-FC2C-4507-B068-8F502EE041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80D1-6763-478F-94CF-BA5EE17A15B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F9A0-938D-44CE-88B5-CF33E0298C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34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388B-F82E-413B-966F-AF6A5783EB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8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86FD-580F-4977-BD9F-F50260FA0C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2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9005-93E3-4354-B62C-C40E276FC5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49AC-B4BB-42AB-A7F9-9E32E889D8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76C7-83A1-4F98-B848-6C328A69AB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4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3D0B-B668-4FD0-A152-270CE3118C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4360" y="3216240"/>
            <a:ext cx="8137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Presentation HES meeting </a:t>
            </a:r>
            <a:br>
              <a:rPr sz="3200"/>
            </a:br>
            <a:r>
              <a:rPr b="1" lang="en-GB" sz="32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20 June 2019</a:t>
            </a:r>
            <a:br>
              <a:rPr sz="3200"/>
            </a:br>
            <a:r>
              <a:rPr b="1" lang="en-GB" sz="32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Brussels</a:t>
            </a:r>
            <a:br>
              <a:rPr sz="2600"/>
            </a:br>
            <a:br>
              <a:rPr sz="2600"/>
            </a:br>
            <a:endParaRPr b="1" lang="en-US" sz="32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443640" y="5013360"/>
            <a:ext cx="3276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d624"/>
                </a:solidFill>
                <a:latin typeface="Garamond"/>
              </a:rPr>
              <a:t>Eleni Kalampoka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d624"/>
                </a:solidFill>
                <a:latin typeface="Garamond"/>
              </a:rPr>
              <a:t>Evaluation Officer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8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F84C-20A5-4AE7-A35B-536599B7DD2B}" type="slidenum">
              <a:rPr b="1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150840" y="801720"/>
            <a:ext cx="88423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7120" indent="-357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xternal Evaluation of the European Union’s Policy Coherence for Development (2009-2016)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1: The EU has exercised a lead role on PCD during the period of evaluation</a:t>
            </a:r>
            <a:endParaRPr b="1" lang="en-US" sz="20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7CEF-332B-4923-8C9F-D2C8D5726D20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755640" y="1989000"/>
            <a:ext cx="813744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EU collective lead role on PCD in the international contex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7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EU’s PCD: means to contribute to international development commitment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107000"/>
              </a:lnSpc>
              <a:buClr>
                <a:srgbClr val="002060"/>
              </a:buClr>
              <a:buFont typeface="Wingdings" charset="2"/>
              <a:buChar char="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Adapted in direct response to MDGs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107000"/>
              </a:lnSpc>
              <a:buClr>
                <a:srgbClr val="002060"/>
              </a:buClr>
              <a:buFont typeface="Wingdings" charset="2"/>
              <a:buChar char="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Fundamental contribution for SDG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107000"/>
              </a:lnSpc>
              <a:buClr>
                <a:srgbClr val="002060"/>
              </a:buClr>
              <a:buFont typeface="Wingdings" charset="2"/>
              <a:buChar char="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Transition no harm approach to a synergies approach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7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Commission acted as a lead institution in the implementation of PCD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107000"/>
              </a:lnSpc>
              <a:buClr>
                <a:srgbClr val="002060"/>
              </a:buClr>
              <a:buFont typeface="Wingdings" charset="2"/>
              <a:buChar char="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Improving existing policy-making framework on IA Guidelines and Better Regulation Guidelin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107000"/>
              </a:lnSpc>
              <a:buClr>
                <a:srgbClr val="002060"/>
              </a:buClr>
              <a:buFont typeface="Wingdings" charset="2"/>
              <a:buChar char="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Implementing EU PCD approach across Commission services (despite limitations)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107000"/>
              </a:lnSpc>
              <a:buClr>
                <a:srgbClr val="002060"/>
              </a:buClr>
              <a:buFont typeface="Wingdings" charset="2"/>
              <a:buChar char="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Continued to raise awareness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3" marL="1600200" indent="-228600">
              <a:lnSpc>
                <a:spcPct val="107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Online PCD training, Biennial reports, EU Delegations reporting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3" marL="1600200" indent="-228600">
              <a:lnSpc>
                <a:spcPct val="107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Involving other EU institutions, EP and the EEAS, and EU Member Stat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2: The EU’s political will on PCD and added value are confirmed and reinforce the sustainability of the EU PCD approach</a:t>
            </a: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1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7AE7-A76D-4A14-A71B-3D1371BCF025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179280" y="2479680"/>
            <a:ext cx="878544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Common position of the EU and its Members States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107000"/>
              </a:lnSpc>
              <a:buClr>
                <a:srgbClr val="002060"/>
              </a:buClr>
              <a:buFont typeface="Wingdings" charset="2"/>
              <a:buChar char="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Instrumental in putting forward EU PCD approach at international level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107000"/>
              </a:lnSpc>
              <a:buClr>
                <a:srgbClr val="002060"/>
              </a:buClr>
              <a:buFont typeface="Wingdings" charset="2"/>
              <a:buChar char="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Council of the European Union continuously reaffirmed political towards PCD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107000"/>
              </a:lnSpc>
              <a:buClr>
                <a:srgbClr val="002060"/>
              </a:buClr>
              <a:buFont typeface="Wingdings" charset="2"/>
              <a:buChar char="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New European Consensus on Develop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7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Participation of EU Member States in PCD mechanism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107000"/>
              </a:lnSpc>
              <a:buClr>
                <a:srgbClr val="002060"/>
              </a:buClr>
              <a:buFont typeface="Wingdings" charset="2"/>
              <a:buChar char="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Coordination and exchange via Informal EU Member States Network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107000"/>
              </a:lnSpc>
              <a:buClr>
                <a:srgbClr val="002060"/>
              </a:buClr>
              <a:buFont typeface="Wingdings" charset="2"/>
              <a:buChar char="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Contributions to PCD Biennial Report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 marL="1143000" indent="-228600">
              <a:lnSpc>
                <a:spcPct val="107000"/>
              </a:lnSpc>
              <a:buClr>
                <a:srgbClr val="002060"/>
              </a:buClr>
              <a:buFont typeface="Times New Roman"/>
              <a:buChar char="-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raises awareness on the progress made by Member States on PCD,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 marL="1143000" indent="-228600">
              <a:lnSpc>
                <a:spcPct val="107000"/>
              </a:lnSpc>
              <a:buClr>
                <a:srgbClr val="002060"/>
              </a:buClr>
              <a:buFont typeface="Times New Roman"/>
              <a:buChar char="-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generates public debate on PCD and peer pressure among Members, and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 marL="1143000" indent="-228600">
              <a:lnSpc>
                <a:spcPct val="107000"/>
              </a:lnSpc>
              <a:buClr>
                <a:srgbClr val="002060"/>
              </a:buClr>
              <a:buFont typeface="Times New Roman"/>
              <a:buChar char="-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increases ownership on PCD within the EU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060"/>
                </a:solidFill>
                <a:latin typeface="Times New Roman"/>
                <a:ea typeface="Calibri"/>
              </a:rPr>
              <a:t> 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4: The EU PCD approach remains relevant at the strategic level but requires yet to be fully adapted to the new SDGs context and current interconnected challenges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AF69-04F0-4607-BFEB-0893BB5D8AD7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616" name="Picture 7" descr=""/>
          <p:cNvPicPr/>
          <p:nvPr/>
        </p:nvPicPr>
        <p:blipFill>
          <a:blip r:embed="rId1"/>
          <a:stretch/>
        </p:blipFill>
        <p:spPr>
          <a:xfrm>
            <a:off x="457200" y="2565360"/>
            <a:ext cx="82296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Conclusion 6: Impact Assessments are a critical tool to ensure PCD</a:t>
            </a:r>
            <a:br>
              <a:rPr sz="1800"/>
            </a:b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1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A66B-3463-465E-A341-202D55817C58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19" name="Rectangle 7"/>
          <p:cNvSpPr/>
          <p:nvPr/>
        </p:nvSpPr>
        <p:spPr>
          <a:xfrm>
            <a:off x="611280" y="1700280"/>
            <a:ext cx="835344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107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PCD-specific mechanisms: do not play central role in policy formulation proc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 marL="1143000" indent="-228600">
              <a:lnSpc>
                <a:spcPct val="107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Biennial Report &amp; PCD Screening of polici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107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PCD non-specific mechanisms play significant role in policy formulation proc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 marL="1143000" indent="-228600">
              <a:lnSpc>
                <a:spcPct val="107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Impact Assessments and Inter Service Consult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107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High degree of correlation between availability/quality of the impact assessment &amp; policy with PCD approach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Extent to which the IA considers the impact of the policy on developing countries and the actual inclusion of development objectives/considerations in the final draft of the polic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926B-3FD2-4D74-85D4-1D1FFDD21E5A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21" name="Content Placeholder 2"/>
          <p:cNvSpPr/>
          <p:nvPr/>
        </p:nvSpPr>
        <p:spPr>
          <a:xfrm>
            <a:off x="900000" y="878040"/>
            <a:ext cx="7786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504d"/>
                </a:solidFill>
                <a:latin typeface="Arial"/>
                <a:ea typeface="Times New Roman"/>
              </a:rPr>
              <a:t>          </a:t>
            </a:r>
            <a:r>
              <a:rPr b="1" lang="en-GB" sz="3200" spc="-1" strike="noStrike">
                <a:solidFill>
                  <a:srgbClr val="c0504d"/>
                </a:solidFill>
                <a:latin typeface="Arial"/>
                <a:ea typeface="Times New Roman"/>
              </a:rPr>
              <a:t>Part III –</a:t>
            </a:r>
            <a:r>
              <a:rPr b="1" lang="en-GB" sz="3200" spc="-1" strike="noStrike">
                <a:solidFill>
                  <a:srgbClr val="c0504d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Times New Roman"/>
              </a:rPr>
              <a:t>Recommendations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8AB9-74F8-45B9-AA8D-5145435DD97E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179280" y="1989000"/>
            <a:ext cx="885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34272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mendation 1: </a:t>
            </a:r>
            <a:r>
              <a:rPr b="1" lang="en-GB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EU to further clarify its commitment to PCD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685800" indent="-34272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685800" indent="-34272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mendation 2: </a:t>
            </a:r>
            <a:r>
              <a:rPr b="1" lang="en-GB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dapt mechanisms and resources based on the clarified scope of PCD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685800" indent="-34272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685800" indent="-34272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mendation 3: </a:t>
            </a:r>
            <a:r>
              <a:rPr b="1" lang="en-GB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ke PCD outputs more explicit and consider impact monitoring from the onset of policy formulation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68580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685800" indent="-34272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mendation 4: </a:t>
            </a:r>
            <a:r>
              <a:rPr b="1" lang="en-GB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hance the role of EU Delegations in impact monitoring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C00E-8AFD-40E3-9A61-EB40F7E7DC45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406440" y="1700280"/>
            <a:ext cx="828036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34272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mendation 3: Make PCD outputs more explicit and consider impact monitoring from the onset of policy formulation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685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68580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“PCD element” of a given EU policy should be clearly identified during policy formulation stage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68580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68580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 monitoring and evaluation framework clarifying the PCD objectives of the policy, including indicators, should be systematically designed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68580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68580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sure that mid-term review of policies, and monitoring and evaluation of policies, projects and programmes consistently include an analysis on PCD and PCD impac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6A2E-0918-4F9A-B003-DF6E59AF2243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27" name="Rectangle 5"/>
          <p:cNvSpPr/>
          <p:nvPr/>
        </p:nvSpPr>
        <p:spPr>
          <a:xfrm>
            <a:off x="250920" y="1197000"/>
            <a:ext cx="871380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34272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mendation 4: Enhance the role of EU Delegations in impact monitoring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685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685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U Delegations should play active role in assessing impact of PCD at country level throughout the policy life cycle, relying on the expertise of various Commission servic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685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685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is could be achieved by inter alia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685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 marL="1152360" indent="-514080">
              <a:lnSpc>
                <a:spcPct val="100000"/>
              </a:lnSpc>
              <a:buClr>
                <a:srgbClr val="00206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aising the awareness of EU Delegations on PCD;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 marL="1152360" indent="-514080">
              <a:lnSpc>
                <a:spcPct val="100000"/>
              </a:lnSpc>
              <a:buClr>
                <a:srgbClr val="00206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mproving the sharing of information between EU Delegations and Commission Services on PCD priority areas;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 marL="1152360" indent="-514080">
              <a:lnSpc>
                <a:spcPct val="100000"/>
              </a:lnSpc>
              <a:buClr>
                <a:srgbClr val="00206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trusting EU Delegations with a more prominent role in assessing impact of EU internal policies throughout the policy cycle;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 marL="1152360" indent="-514080">
              <a:lnSpc>
                <a:spcPct val="100000"/>
              </a:lnSpc>
              <a:buClr>
                <a:srgbClr val="00206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rengthening the coordination at EU Delegations with EU headquarters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8000" y="90972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89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3534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Part I – </a:t>
            </a: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Introduction: Generic methodological approach to the evaluation 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Part II – </a:t>
            </a: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Conclusions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Part III –</a:t>
            </a: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Recommendations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lvl="1" indent="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8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6DCA-765A-4B14-B82E-62B39711F89F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86" name="Title 1"/>
          <p:cNvSpPr/>
          <p:nvPr/>
        </p:nvSpPr>
        <p:spPr>
          <a:xfrm>
            <a:off x="-2629080" y="1539720"/>
            <a:ext cx="117144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Presentation Overview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89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9F61-7C57-4F49-AD06-764788A8CFFA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89" name="Content Placeholder 2" descr=""/>
          <p:cNvPicPr/>
          <p:nvPr/>
        </p:nvPicPr>
        <p:blipFill>
          <a:blip r:embed="rId1"/>
          <a:stretch/>
        </p:blipFill>
        <p:spPr>
          <a:xfrm>
            <a:off x="92160" y="1450800"/>
            <a:ext cx="905184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9144000" cy="1223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89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12C7-775F-497A-B0A0-1C7A9267173C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1332000" y="1773360"/>
            <a:ext cx="7200720" cy="33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Scope: </a:t>
            </a:r>
            <a:r>
              <a:rPr b="1" lang="en-GB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09-2016, Developing countries (LDCs), 5 PCD Strategic challenges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mplementation and functioning of the EU’s PCD tools and mechanism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fluence of PCD process on selected EU non-development polici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utcomes and impact in developing countries of EU policies incorporating a PCD approach in specific case studi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Times New Roman"/>
                <a:ea typeface="Times New Roman"/>
              </a:rPr>
              <a:t> 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D5CA-DB35-4A09-BB9C-04507B6530F7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68360" y="836640"/>
            <a:ext cx="11274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c0504d"/>
                </a:solidFill>
                <a:latin typeface="Arial"/>
                <a:ea typeface="Times New Roman"/>
              </a:rPr>
              <a:t>	</a:t>
            </a:r>
            <a:r>
              <a:rPr b="1" i="1" lang="en-GB" sz="1800" spc="-1" strike="noStrike">
                <a:solidFill>
                  <a:srgbClr val="c0504d"/>
                </a:solidFill>
                <a:latin typeface="Arial"/>
                <a:ea typeface="Times New Roman"/>
              </a:rPr>
              <a:t>	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Arial"/>
                <a:ea typeface="Times New Roman"/>
              </a:rPr>
              <a:t>3. Evaluation Levels: </a:t>
            </a:r>
            <a:r>
              <a:rPr b="1" lang="en-GB" sz="1800" spc="-1" strike="noStrike">
                <a:solidFill>
                  <a:srgbClr val="c0504d"/>
                </a:solidFill>
                <a:latin typeface="Arial"/>
                <a:ea typeface="Times New Roman"/>
              </a:rPr>
              <a:t>	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pic>
        <p:nvPicPr>
          <p:cNvPr id="595" name="Picture 6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89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5F69-A63C-4E92-B908-DB725BB6213F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1"/>
          <a:stretch/>
        </p:blipFill>
        <p:spPr>
          <a:xfrm>
            <a:off x="65160" y="1055520"/>
            <a:ext cx="8640720" cy="5666040"/>
          </a:xfrm>
          <a:prstGeom prst="rect">
            <a:avLst/>
          </a:prstGeom>
          <a:ln w="0">
            <a:noFill/>
          </a:ln>
        </p:spPr>
      </p:pic>
      <p:sp>
        <p:nvSpPr>
          <p:cNvPr id="599" name="TextBox 2"/>
          <p:cNvSpPr/>
          <p:nvPr/>
        </p:nvSpPr>
        <p:spPr>
          <a:xfrm>
            <a:off x="6084720" y="26028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c0504d"/>
                </a:solidFill>
                <a:latin typeface="Arial"/>
                <a:ea typeface="Times New Roman"/>
              </a:rPr>
              <a:t>Evaluation Question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C48A-DE07-4F04-A68A-D23C92360D89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01" name="Content Placeholder 2"/>
          <p:cNvSpPr/>
          <p:nvPr/>
        </p:nvSpPr>
        <p:spPr>
          <a:xfrm>
            <a:off x="900000" y="878040"/>
            <a:ext cx="7786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504d"/>
                </a:solidFill>
                <a:latin typeface="Arial"/>
                <a:ea typeface="Times New Roman"/>
              </a:rPr>
              <a:t>          </a:t>
            </a:r>
            <a:r>
              <a:rPr b="1" lang="en-GB" sz="3200" spc="-1" strike="noStrike">
                <a:solidFill>
                  <a:srgbClr val="c0504d"/>
                </a:solidFill>
                <a:latin typeface="Arial"/>
                <a:ea typeface="Times New Roman"/>
              </a:rPr>
              <a:t>Part II –</a:t>
            </a:r>
            <a:r>
              <a:rPr b="1" lang="en-GB" sz="3200" spc="-1" strike="noStrike">
                <a:solidFill>
                  <a:srgbClr val="c0504d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>
                <a:solidFill>
                  <a:srgbClr val="c0504d"/>
                </a:solidFill>
                <a:latin typeface="Arial"/>
                <a:ea typeface="Times New Roman"/>
              </a:rPr>
              <a:t>Conclusions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Arial"/>
                <a:ea typeface="Arial"/>
              </a:rPr>
              <a:t>                                                                                       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E3FE-F0F7-463A-AE7F-8EABFEAF0B99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395280" y="1886040"/>
            <a:ext cx="806436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1: </a:t>
            </a: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EU has exercised a lead role on PCD during the period of evalu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2: </a:t>
            </a: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EU’s political will on PCD and added value are confirmed and reinforce the sustainability of the EU PCD approach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3: </a:t>
            </a: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EU PCD approach is not clearly and sufficiently defined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4: </a:t>
            </a: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EU PCD approach remains relevant at the strategic level but requires yet to be fully adapted to the new SDGs context and current interconnected challeng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Arial"/>
                <a:ea typeface="Arial"/>
              </a:rPr>
              <a:t>                                                                                        </a:t>
            </a:r>
            <a:r>
              <a:rPr b="1" lang="en-GB" sz="20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PART II- Conclusions </a:t>
            </a:r>
            <a:endParaRPr b="1" lang="en-US" sz="20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5: </a:t>
            </a: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pite some recent improvements, PCD mechanisms have limited efficiency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6: </a:t>
            </a: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mpact Assessments are a critical tool to ensure PCD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7: </a:t>
            </a: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ven though certain EU policies can be considered as good practices and do incorporate a PCD approach, the effectiveness of EU PCD could be further improved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8: </a:t>
            </a: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asuring the impact of PCD remains very challenging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CD37-4D2D-49C7-B4F8-2C26C4F0EF3E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KALAMPOKA Eleni (DEVCO)</cp:lastModifiedBy>
  <cp:lastPrinted>2019-06-18T17:33:59Z</cp:lastPrinted>
  <dcterms:modified xsi:type="dcterms:W3CDTF">2019-06-19T14:54:49Z</dcterms:modified>
  <cp:revision>258</cp:revision>
  <dc:subject/>
  <dc:title>Slide 1</dc:title>
</cp:coreProperties>
</file>